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2.png" ContentType="image/png"/>
  <Override PartName="/ppt/media/image37.wmf" ContentType="image/x-wmf"/>
  <Override PartName="/ppt/media/image7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applause.wav" ContentType="audio/x-wav"/>
  <Override PartName="/ppt/media/image5.png" ContentType="image/png"/>
  <Override PartName="/ppt/media/image38.wmf" ContentType="image/x-wmf"/>
  <Override PartName="/ppt/media/image8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94CE-5828-4252-8104-69B2567B04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8EB0-CCD8-4F5D-AA4E-060F09DD41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B83D-548B-4CDB-AB90-5842A8226F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E8FD-1A72-403E-8A38-E7A9D0FE76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D443-39A9-40A1-8738-0F1FF9C4FF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BC56-E55D-452B-9EE4-9F78D6FB69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11CC-D420-4172-B3B2-5A228FAAE5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6CDF-982D-4331-8C71-D62DD3DB9D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FD90-8279-4ADE-97DA-16205FE074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D05F-2E83-491F-AA44-6199318CD8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B80A-B15C-42A6-B1B8-7DE3469399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F06D-42A8-44CF-B25B-5D37A2EC21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69A1-F761-4BD7-B038-9D6DD55B0E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B7F7-E1B0-4470-97EE-FB0F01FD37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3E75-3F56-4D81-9B6E-957FD524F8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8FB4-27D1-44D6-BC1F-CE60608834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2A55-57FD-4F8D-9CD8-7F22B9F4B0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8B3F-9937-4D15-8D5D-6827DBA9A7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C4F-16A4-4A7B-9116-6405A30645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A089-29DD-4220-A0DE-A5D579537F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3F45-78AC-4CAA-98B8-2CAF67E5CA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4C6E-8F04-4F0D-8676-759A0C1CDA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82E-2E4B-4EAD-8634-C3254E0859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184-C188-4C61-8E94-37F68A858E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49C7-D512-42DD-BDE3-71417D2BE3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2758-BD5A-4778-AEC6-74629C5C2D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89C3-148C-4189-9BD0-C165A69BEB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389-2566-41A4-A59B-31DBCDE1AD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EED3-2D7A-456D-9152-20E733C3BF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F00-0EC8-4D51-B6C6-B980AC8B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96B-829C-4A54-AE6F-0C90069F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7FB-E792-41DC-AE00-6C7CB20A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29D-A0C8-452F-A83F-30178B88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55F-608D-4862-83AD-C9CBEFA1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654-7000-4528-A725-9223F49C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0B8-975C-49FD-8B2F-2BC5E74D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E43-468A-43DC-A715-8651123D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CD3-8CE8-473D-B0AB-0719CDEE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DB2-11FB-4257-9CF8-76186C6D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5D4-8E84-45CA-BBA5-6996527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1D7-EF24-476C-83F5-79799D56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A3E8-084D-4C2E-9307-AAF0D91B5BE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image" Target="../media/image23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4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8" name="Oval 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92" name="Oval 7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8" descr="000803_1055_5919_vnvv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7" descr="000803_1077_3831_vnvv"/>
          <p:cNvPicPr/>
          <p:nvPr/>
        </p:nvPicPr>
        <p:blipFill>
          <a:blip r:embed="rId1"/>
          <a:srcRect l="0" t="0" r="0" b="2556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101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AutoShape 11"/>
          <p:cNvSpPr/>
          <p:nvPr/>
        </p:nvSpPr>
        <p:spPr>
          <a:xfrm rot="5400000">
            <a:off x="-1866600" y="3314520"/>
            <a:ext cx="5181480" cy="1447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000803_1069_5279_vnvv"/>
          <p:cNvPicPr/>
          <p:nvPr/>
        </p:nvPicPr>
        <p:blipFill>
          <a:blip r:embed="rId2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00803_1055_6420_vnvv"/>
          <p:cNvPicPr/>
          <p:nvPr/>
        </p:nvPicPr>
        <p:blipFill>
          <a:blip r:embed="rId3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31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34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51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3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7" name="Oval 7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47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AutoShape 9"/>
          <p:cNvSpPr/>
          <p:nvPr/>
        </p:nvSpPr>
        <p:spPr>
          <a:xfrm rot="5400000">
            <a:off x="-1714680" y="2781360"/>
            <a:ext cx="5181840" cy="17524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23:1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